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7CB-4C44-492F-A288-491AA08D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174-D849-4342-B3AB-70CCDE70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40B-A19A-4232-8A2A-E5499AAC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E62-2D7A-470B-9726-09DF4A13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E653-C262-4933-B815-8B7BF017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63B8-6652-457A-8A0C-FD08475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EC8C-E294-475C-8746-8EA00144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7E3C-1E40-4533-BB47-2C64657E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72D1-176E-4610-BDE0-B5AB5A44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D859-E153-4BEB-B9F4-1851D21F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D230-6A09-4227-9FE8-C2240E13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F33-4A73-4FBD-B899-37711D9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822-2A0C-4594-B7DD-E80D0735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BF3F-CA3C-47D3-8A5F-5C97CC3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9294-7C06-4571-BD5B-A326F432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71B-71D3-4051-8665-AB3DDBD1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448E-0329-4049-A419-1F5D3A81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DA4-C987-45DD-A864-AC35C1BB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DFE-2EC4-4D03-ACC7-02475432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E2D-16CF-4B75-A304-DC46601B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A18-1CF3-4224-8350-8E9E1F7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81C-2B67-45CB-B850-B442254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FBD-8389-443C-85B2-CBC61D5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BE6-D76C-4BF1-AD59-3484FA24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CF2-9DB6-41B6-AD36-71797E65E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C77-44C5-43D6-BAD1-4C2986EDE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hapter 35: Franklin D. Roosevelt and the Shadow of Wa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-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asemen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ich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eas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voiding war by making conc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democracies allowed Hitler Sudetenland for “peace in our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220px-Bundesarchiv_Bild_146-1976-063-32,_Bad_Godesberg,_M%C3%BCnchener_Abkommen,_Vorbereitung"/>
          <p:cNvPicPr/>
          <p:nvPr/>
        </p:nvPicPr>
        <p:blipFill>
          <a:blip r:embed="rId1"/>
          <a:stretch/>
        </p:blipFill>
        <p:spPr>
          <a:xfrm>
            <a:off x="3657600" y="4419720"/>
            <a:ext cx="168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seuss"/>
          <p:cNvPicPr/>
          <p:nvPr/>
        </p:nvPicPr>
        <p:blipFill>
          <a:blip r:embed="rId1"/>
          <a:stretch/>
        </p:blipFill>
        <p:spPr>
          <a:xfrm>
            <a:off x="1371600" y="762120"/>
            <a:ext cx="6629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tler’s Belligerenc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Stalin &amp; Hitler sign nonaggression treaty in Aug. 1939 (Nazi-Soviet Pac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tler now free to make war on Poland &amp; western democracies w/o fearing Soviet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ed land from Poland that was wrested from Germany post WW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 Poland Sept. 1, 19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6095880" y="4743360"/>
            <a:ext cx="21272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 Neutral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&amp; France declare war o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up appeas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nd falls in just 3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proclaims neutrality (Neutrality Act of 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&amp; France neede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sh and Car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democracies can buy US war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ll of F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y Wa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s attack Fin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0- Hitler attacks Denmark, Norway, Belgium &amp;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 surrenders after Mussolini joins w/ Hi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’ll Always be an Engla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sent $37 billion to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 of European colonies in New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troyer De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stood between Hitler &amp; his dream of world d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attacks against Britain, 1940 (Battle of Brit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ate over isolationism vs. interven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 to Defend America by Aiding the Al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transferred 50 destroyers to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on of 194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: Wendell L. Willk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emned New Deal &amp; FDR “dictatorshi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: FD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s 2-term trad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a Third Term than a Third Ra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promised to stay out of war &amp; strengthen nations’ defe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172200" y="4973760"/>
            <a:ext cx="29718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9153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nd-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would send a limitless supply of arms to victims of aggression, who in turn would keep the fight on their side of the Atlan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ated by people &amp; Congr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declaration of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andonment of pretense of neutr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begins attacking US ships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bin Mo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lantic Char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tler’s invasion of Soviet Union, June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R promised assistance ($1 bill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1 bi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asion hal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ston Churchill &amp; F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lantic Char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spirations of democracies for better world at war’s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32497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ndon Con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ndon Conference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6 count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 political attack on global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rate sta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R withdrew America from negotiations- every man for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e of London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nternational cooperation more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h with Hit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sends convoy to escort British lend-lease shi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ships attacked by German u-boa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r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ear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uben J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moving away from neutr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ships could now enter combat zones a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 + Germany= formal allies, Sep. 19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embargo on Japan-bound supplies, 19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zing of Japanese assets in US &amp; ending gasoline shi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se negotiations, late 1941: US insists that Japan pull out of Chi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 chose war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7,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ate which will live in infam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ese bombers attack w/o w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000 casu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declares war on Japan the next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1- Germany &amp; Italy declare war on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553080" y="52560"/>
            <a:ext cx="259092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409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5021280" y="2286000"/>
            <a:ext cx="4122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lipinos &amp; Russi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ydings-McDuffie Ac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vided for independence of Philippines after 12 y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ing themselves from economic burden of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formally recognized Soviet Union in 19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y against German &amp; Japanese th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d Neighb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red that US was giving up status as world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eager to have Latin American countries help defend w. hemi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ood Neighbor Poli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mphasis on consultation &amp; nonintervention in Lat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ra of friend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auded in Lat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batista-fdr"/>
          <p:cNvPicPr/>
          <p:nvPr/>
        </p:nvPicPr>
        <p:blipFill>
          <a:blip r:embed="rId1"/>
          <a:stretch/>
        </p:blipFill>
        <p:spPr>
          <a:xfrm>
            <a:off x="6781680" y="4794120"/>
            <a:ext cx="23623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iprocal Trade Agre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H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lift American export trade from the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 &amp;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d low-tariff policies of New Dea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ed most objectionable schedules of Hawley- Smoot Tari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foreign trade increased, trade agre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ved the way for American free-trade economi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anish Civil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-19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rebels attempted to overthrow loyalist regime in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ed by Soviet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placed arms embargo on both rebels &amp; loy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so determined to stay out of war, it condemned fellow 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dic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SpanishCivilWar-1(RBM)"/>
          <p:cNvPicPr/>
          <p:nvPr/>
        </p:nvPicPr>
        <p:blipFill>
          <a:blip r:embed="rId1"/>
          <a:stretch/>
        </p:blipFill>
        <p:spPr>
          <a:xfrm>
            <a:off x="6553080" y="5097600"/>
            <a:ext cx="25909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asing Japan &amp; Germa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, Japan attacks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=neutr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antine Spee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- FDR called for positive endeavors to quarantine the aggressive count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sts by isolationists (moral quarantin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ght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Elt200811251918380665359"/>
          <p:cNvPicPr/>
          <p:nvPr/>
        </p:nvPicPr>
        <p:blipFill>
          <a:blip r:embed="rId1"/>
          <a:stretch/>
        </p:blipFill>
        <p:spPr>
          <a:xfrm>
            <a:off x="5715000" y="4832280"/>
            <a:ext cx="30481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ANd9GcRva_VMit5KWAmlE0k6oNMdDz6U65-4l9tEUtCG6kW6pwFf_5am"/>
          <p:cNvPicPr/>
          <p:nvPr/>
        </p:nvPicPr>
        <p:blipFill>
          <a:blip r:embed="rId1"/>
          <a:stretch/>
        </p:blipFill>
        <p:spPr>
          <a:xfrm>
            <a:off x="1828800" y="152280"/>
            <a:ext cx="55180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rantine Tes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. 1937- Japan sinks American gunboat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n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Chi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tler grew louder &amp; bolder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lsory military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ed into demilitarized German Rhine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ecuted &amp; exterminated Jewi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ied Aust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ed Sudeten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2:38:21Z</dcterms:created>
  <dc:creator>emily.johnson</dc:creator>
  <dc:description/>
  <dc:language>en-US</dc:language>
  <cp:lastModifiedBy>emily.johnson</cp:lastModifiedBy>
  <dcterms:modified xsi:type="dcterms:W3CDTF">2013-03-22T12:08:54Z</dcterms:modified>
  <cp:revision>10</cp:revision>
  <dc:subject/>
  <dc:title>Chapter 35: Franklin D. Roosevelt and the Shadow of War</dc:title>
</cp:coreProperties>
</file>